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D699-9969-4196-B5BB-E4F9AFF21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0E19-28C9-4E9B-9021-59382D081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683C-3BF5-4E31-A412-C3E070E94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249C-7423-457F-B028-D3D501A04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4A87-A581-4BE7-82A3-C81015222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16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1240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16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16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1240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1240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16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16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16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11240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11240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440" y="7560"/>
            <a:ext cx="8458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11240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4416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1240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11240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394416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11240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4416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94416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11240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416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394416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11240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11240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94416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394416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394416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11240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11240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440" y="7560"/>
            <a:ext cx="8458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11240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394416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11240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394416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11240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94416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394416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11240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94416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394416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11240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11240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394416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394416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394416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1240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7560"/>
            <a:ext cx="8458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1240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16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1240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16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72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1240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1240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16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8650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50000">
                <a:srgbClr val="4d4d4d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7920"/>
            <a:ext cx="8380440" cy="7621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75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11240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75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11240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15880" y="1638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olution MidTerm 2017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useppe Attard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à di Pis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7640"/>
            <a:ext cx="8458200" cy="6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lock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11240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mplements Serializable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int seq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int nonce = -1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Hash previou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Transaction 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t seq, Hash previous, Transaction t) { </a:t>
            </a:r>
            <a:r>
              <a:rPr b="1" lang="mr-IN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new Hash(serialize()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in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h hash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ce++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h = this.hash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while (!hash.isValid(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nonc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7640"/>
            <a:ext cx="8458200" cy="6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lock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440" y="1112400"/>
            <a:ext cx="826452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byte[]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ial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te bs = ByteArrayOutputStream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s.write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teBuffer.allocate(4).putInt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).array()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s.write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teBuffer.allocate(4).putInt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ce).array()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s.write(previous.hash()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s.write(t.serialize()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bs.toByteArray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15520" y="1638360"/>
            <a:ext cx="77281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ercise 2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7640"/>
            <a:ext cx="8458200" cy="6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lockChai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440" y="1112400"/>
            <a:ext cx="84582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lass BlockChain 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ivate List&lt;Block&gt; chain = new LinkedList&lt;&gt;(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77520" y="0"/>
            <a:ext cx="8466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oolean isValidBlockChain(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p&lt;Hash, BitSet&gt; spentOutputs = new HashMap&lt;&gt;(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ash current = null;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// current block in ch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r (Block next : chain) {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// next block in ch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ansaction tx = next.transaction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f (current == null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 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pentOutputs.put(new Hash(tx.serialize()), new BitSet(tx.getOutputs().size())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urrent = nex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ntinu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ash previous = current.previous(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ash hash = next.hash(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f (!hash.isValid() || !hash.equals(previous))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// current block must refer to next 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 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r (Input input : tx.getInputs()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f (spentOutputs.computeIfPresent(input.getKey(),  </a:t>
            </a: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// update spentOutpu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k, v) -&gt;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f (v.get(input.getValue()))</a:t>
            </a: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// already spent output at index input.getValue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v.set(input.getValue());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// upd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turn  v;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// put back into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}) == nul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pentOutputs.put(new Hash(tx.serialize()), new BitSet(tx.getOutputs().size())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urrent = nex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693720" y="165240"/>
            <a:ext cx="8450280" cy="66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ublic int getBalance(PublicKey use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p&lt;Hash, BitSet&gt; spentOutputs = new HashMap&lt;&gt;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terator &lt;Block&gt; it = chain.descendingIterator();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// from last to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ile (it.hasNext(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lock b = it.nex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nsaction tx = b.transacti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ash hash =  new Hash(t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st&lt;Output&gt; outputs = tx.getOutput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 (int i = 0; i &lt; outputs.size()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utput o = outputs.get(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 (user.equals(o.getValue()) &amp;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spentOutputs.get(hash) == null || !spentOutputs.get(hash).get(i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lance += o.getKey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// now add the outputs to the map spent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 (Input in : tx.getInputs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ntOutputs.computeIfAbsent(in.getKey(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 -&gt; new BitSet()).set(in.getValue()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turn balan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15880" y="1638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ercise 3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693720" y="0"/>
            <a:ext cx="8450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static void main(String args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ing inpu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ing[] toke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anner reader =  new Scanner(System.i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out.print(</a:t>
            </a:r>
            <a:r>
              <a:rPr b="1" lang="en-US" sz="1800" spc="-1" strike="noStrike">
                <a:solidFill>
                  <a:srgbClr val="515151"/>
                </a:solidFill>
                <a:latin typeface="Calibri"/>
              </a:rPr>
              <a:t>"&gt; "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put = reader.nextLine().tri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} while (input.equals(</a:t>
            </a:r>
            <a:r>
              <a:rPr b="1" lang="en-US" sz="1800" spc="-1" strike="noStrike">
                <a:solidFill>
                  <a:srgbClr val="515151"/>
                </a:solidFill>
                <a:latin typeface="Calibri"/>
              </a:rPr>
              <a:t>""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kens = input.split(</a:t>
            </a:r>
            <a:r>
              <a:rPr b="1" lang="en-US" sz="1800" spc="-1" strike="noStrike">
                <a:solidFill>
                  <a:srgbClr val="515151"/>
                </a:solidFill>
                <a:latin typeface="Calibri"/>
              </a:rPr>
              <a:t>"\\s+"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witch (tokens[0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 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se </a:t>
            </a:r>
            <a:r>
              <a:rPr b="1" lang="en-US" sz="1800" spc="-1" strike="noStrike">
                <a:solidFill>
                  <a:srgbClr val="515151"/>
                </a:solidFill>
                <a:latin typeface="Calibri"/>
              </a:rPr>
              <a:t>"status"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intBlockChai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se </a:t>
            </a:r>
            <a:r>
              <a:rPr b="1" lang="en-US" sz="1800" spc="-1" strike="noStrike">
                <a:solidFill>
                  <a:srgbClr val="515151"/>
                </a:solidFill>
                <a:latin typeface="Calibri"/>
              </a:rPr>
              <a:t>"check"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 (chain.isValidBlockChain(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out.println(</a:t>
            </a:r>
            <a:r>
              <a:rPr b="1" lang="en-US" sz="1800" spc="-1" strike="noStrike">
                <a:solidFill>
                  <a:srgbClr val="515151"/>
                </a:solidFill>
                <a:latin typeface="Calibri"/>
              </a:rPr>
              <a:t>"The block chain is valid!"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out.println(</a:t>
            </a:r>
            <a:r>
              <a:rPr b="1" lang="en-US" sz="1800" spc="-1" strike="noStrike">
                <a:solidFill>
                  <a:srgbClr val="515151"/>
                </a:solidFill>
                <a:latin typeface="Calibri"/>
              </a:rPr>
              <a:t>"The block chain is not valid."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;</a:t>
            </a:r>
            <a:r>
              <a:rPr b="1" lang="en-US" sz="1800" spc="-1" strike="noStrike">
                <a:solidFill>
                  <a:srgbClr val="515151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15880" y="1638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ercise 4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-2160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11240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closure is a functional object that consists of a function and the lexical environment at the time of its creation. The environment contains the bindings for the non local variables visible in the scope of the function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 C#, a delegate type is a type that represents functions with a given signature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delegate instance is created on an object and a method on that object compatible with its signature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delegate instance can be used as a function by invoking it with arguments, and this corresponds to invoking the delegate method on the delegate target with the given arguments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7640"/>
            <a:ext cx="8458200" cy="6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eneral Remark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047600"/>
            <a:ext cx="7772400" cy="556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low good programming guideli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s://github.com/twitter/commons/blob/master/src/java/com/twitter/common/styleguide.m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particula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EVER, EVER, EVER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bal variable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inder parallel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exceptions sparingly (and handle the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strings sparingly (StringBuffer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7640"/>
            <a:ext cx="8458200" cy="6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se Object Oriented Programm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047600"/>
            <a:ext cx="7772400" cy="556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SE Polymorphism, USE Polymorphism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s your code more modular, more readable, more extensi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void using Reflec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instanceof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void static metho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ka functions, in OO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void functions for similar task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use polymorphic method in each of the classes where the operation is need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7640"/>
            <a:ext cx="8458200" cy="6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ad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11240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Utils 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c String bytesToString(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c String inputstoString(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c String outputsToString(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r-IN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ernativ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method serialize() in each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15880" y="1638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ercise 1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7640"/>
            <a:ext cx="8458200" cy="6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ash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440" y="1047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lass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ash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rivate static final MessageDigest md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essageDigest.getInstance(“SHA-256”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ublic byte[] cod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ublic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Hash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(byte[] bytes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ode = md.digest(byte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oolean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isValid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() { return code[0] == 0 &amp;&amp; </a:t>
            </a:r>
            <a:r>
              <a:rPr b="1" lang="mr-IN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code[2] == 0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oolean </a:t>
            </a:r>
            <a:r>
              <a:rPr b="1" lang="en-US" sz="2400" spc="-1" strike="noStrike">
                <a:solidFill>
                  <a:srgbClr val="ff0000"/>
                </a:solidFill>
                <a:latin typeface="Lucida Sans"/>
              </a:rPr>
              <a:t>equals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(Hash other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turn Arrays.equals(code, other.code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7640"/>
            <a:ext cx="8458200" cy="6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pu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440" y="1112400"/>
            <a:ext cx="8226360" cy="561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extends Pair&lt;Hash, Integer&gt; {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b050"/>
                </a:solidFill>
                <a:latin typeface="Arial"/>
              </a:rPr>
              <a:t>// Hash for transaction, Integer for index in output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Transaction t, int idx) {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per(new Hash(t.serialize()), idx);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ublic byte[]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erializ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yte[] hash = getKey().code;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yte bb = ByteBuffer.allocate(hash.length + 4);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b.put(hash).putInt(getValue());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turn bb.array();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extends Pair&lt;Integer, PublicKey&gt; {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int v, PublicKey key) { </a:t>
            </a:r>
            <a:r>
              <a:rPr b="1" lang="mr-IN" sz="25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ublic byte[]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erializ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) { </a:t>
            </a:r>
            <a:r>
              <a:rPr b="1" lang="mr-IN" sz="25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7640"/>
            <a:ext cx="8458200" cy="6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ransa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440" y="1112400"/>
            <a:ext cx="81882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Transaction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implements Serializable {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ivate List&lt;Input&gt; inputs;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ivate List&lt;Output&gt; outputs;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ivate byte[] signature;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Transaction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puts = new ArrayList&lt;&gt;();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utputs = new ArrayList&lt;&gt;();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add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Input i) {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puts.add(i);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add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Output o) {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utputs.add(o);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7640"/>
            <a:ext cx="8458200" cy="6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ransa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440" y="1112400"/>
            <a:ext cx="8148600" cy="54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ig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PrivateKey key) {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gnature s = new Signature(”SHA256withRSA”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.init(key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(Input i : input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.update(i.serialize()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(Output o : output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.update(o.serialize()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gnature = s.sign(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blic byte[]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erializ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te bs = ByteArrayOutputStream(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(Input i : input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s.write(i.serialize()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(Output o : output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s.write(o.serialize()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s.write(signature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turn bs.toByteArray(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40:03Z</dcterms:created>
  <dc:creator>Giuseppe Attardi</dc:creator>
  <dc:description/>
  <dc:language>en-US</dc:language>
  <cp:lastModifiedBy>GIUSEPPE ATTARDI</cp:lastModifiedBy>
  <dcterms:modified xsi:type="dcterms:W3CDTF">2017-04-21T15:20:03Z</dcterms:modified>
  <cp:revision>133</cp:revision>
  <dc:subject/>
  <dc:title>Albero binario</dc:title>
</cp:coreProperties>
</file>